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9E0C-1EE0-4C10-87C9-A2822AB4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3FC8-E345-4AB3-941F-F7FA99B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2F20-EABE-49BB-B381-6F25C6D7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3BC6-D5C6-4631-953B-9C8D7C15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FCCE-C579-4696-8C9F-6F8913A8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17F7-732B-40AC-BABE-77C2259B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DB4C-8A23-467E-B26B-D5943CF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714F-A9AD-4EF9-9C12-E61948C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6517-61F1-4BA4-938F-93D3A2B1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2A2B-33F2-421B-9CCF-5021A5E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71C-A6E1-430C-9DF8-73EDAE1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7867-FBDA-4287-BE86-F2C6CD80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5BDF-1A2F-4D50-83F1-FFCD161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B5C-E57C-4874-B97C-255CABD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9488-3216-4243-B54F-1872DCA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E64C-CCAE-4423-8254-E5FAC4EC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734F-8398-4128-A623-8D367E74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4675-0BBD-4057-8AA1-8D3B425B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6682-CCCE-47CF-836F-4FE939FD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BE5B-8503-4476-B15E-EE0F662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2431-77D6-483E-AD8A-F706B139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6D86-CCAF-4177-8F83-6A512C2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D0BA-2B53-4575-9D95-6E1C17F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BA01-19BE-4E15-8BC7-028AD9E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F4B6-AD4A-467C-A298-05A464CE4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D815-9048-4CE2-8864-5B0FD678F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 (Graphical User Interf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of user interface that features on-screen objects, such as menus and icons, manipulated by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 is pronounced “goo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etailed, step-by-step instructions that tell a computer how to solve a problem or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omputer programs that help a person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tion on a network that is set aside for the collec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directory or subdivision, of a drive that can contain files or other f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d collection of data that exists on a storag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672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vacuum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 tubes are electronic devices that control the flow of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no oper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ustom application programs, which were made for the specific task that the computer was to 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 were necessary for every aspect of the computing j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386160" cy="237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ransi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s performed functions similar to vacuum tubes, but they were smaller, cheaper, less power-hungry, and more rel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programming language compi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English like commands rather than binary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t possible to develop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472" r="0" b="6118"/>
          <a:stretch/>
        </p:blipFill>
        <p:spPr>
          <a:xfrm>
            <a:off x="5203800" y="2314440"/>
            <a:ext cx="2925720" cy="321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tegrated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nd less powerful th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, but had the ability to run multiple programs for multiple users simultane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4281480" cy="2711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general-purpose microproc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 were smaller, faster, and less expensive tha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245120" cy="239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ler for all activities that take place within a computer; primary purpose is to help the computer system monitor itself in order to function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lication software, device drivers, and hardware to manage a computer’s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input and output proceed in an orderly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hardware and software of the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pula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more than on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the instructions and data from one area of memory don’t interfere with memory allocated for other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6:13:29Z</dcterms:created>
  <dc:creator>Michelle Guymon</dc:creator>
  <dc:description/>
  <dc:language>en-US</dc:language>
  <cp:lastModifiedBy>TMS</cp:lastModifiedBy>
  <dcterms:modified xsi:type="dcterms:W3CDTF">2004-11-03T19:21:37Z</dcterms:modified>
  <cp:revision>27</cp:revision>
  <dc:subject/>
  <dc:title>Operating Systems</dc:title>
</cp:coreProperties>
</file>